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2ACA-EEBD-48CB-95A7-2654B79E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John Fogerty’s Centerfield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oles as Co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A96D-DBA6-4D30-B459-0A755B37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6095-63B1-473E-A58C-81A7EBB1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get one share one handou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A203-B742-4BEA-881C-38B0CA73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211E-E3A0-484C-9E2F-56FC314E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CC3D-194A-4CC6-8D58-E3BC20C5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E520-A630-4BD7-81E5-2FBFE02C7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2118-0A73-4BA1-B85E-8E7F0B277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EC2B-2CC9-432E-BC03-CEA8A0B8D8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3E8C-E95C-4A71-9429-9ACD16EB2AD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5C4F-AFA9-49E7-8483-5C9AEE8420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F9916-94F5-40F7-9248-993831862B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5565F-5B85-427E-B523-B804C1C4E2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3652-13D3-4B71-B5FB-76EBDB1F9A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368A7-B2B9-4EE3-AE4A-2A39C9C8A21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B192-E82F-4222-96BD-2152033127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CE5E-D589-4FB2-B567-EE2011B8BA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3D12D-6169-48A5-A68C-3ABA1B8CBD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6404F-D2EA-44D0-B96E-3985B9950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42BB-72C8-4D33-8FE6-4377FFE5CDB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2A76B1-22E6-4281-B861-B10BE1B6364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3876C-EE2F-4FAA-B74E-B944700A84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218E4-AB25-43D8-A33E-ED759CF4BCC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34AD0-B2AF-4422-8E96-8FA4472B24E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D9BA3-EA5F-41B0-9606-AC0DCEB20DE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B5A28-0375-47BF-BC81-50AA0B48215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4CCFC-5D6B-4763-97E0-94A6847A8AE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4559E4-CBD8-4463-B692-786E1A86EF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B9944-7D58-455D-9BDB-0763F7CC25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01CA6-075F-4AC8-826F-E38D0B824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32EE-A227-4FB6-BF59-65E840D6D0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EF4B5-A814-40DE-A21F-4A3BE098EBE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54F63-C62C-4B52-81EC-D08A4E18C4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A76AF-C993-43EB-A4D2-6A1580929C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658D5-8E2F-48FC-A3F8-4FE2F3755B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522C7C-1AEF-4716-A863-BF6205F6CB7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4B0D7-218E-4238-A768-F6E0B13776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B412E-67F8-494A-A279-2DEA2FAC43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B409B-8665-4FCA-8AF7-D14FDE6600F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702A6-B7CF-4FF0-8592-C59D111CA7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BA420-722E-432C-AF8D-ABE755C49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A0E8E-5FAA-4B26-8512-B6BAB60A0D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D5777-146D-4CD3-B4BF-395CDA0133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8271D-4103-4C55-86CE-710A26B4638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6D435-517B-48F2-ACCE-F4B8DC5B90C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9FEA9-3DBE-4EE5-B302-E591DC6F33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7855A-7F93-4D9E-96B4-7CACE3BB25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646E-0A71-4A49-86C4-76B58FE8A0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F246-8C2A-4588-8D8C-39A4DCFF51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0C255-410D-4E5D-B242-C4AD3456D7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C37D1-D5FF-4A76-90C0-249FE51EE7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580F-DE0C-4E2F-936E-AFFA2E308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C06B-EAEB-43E1-A0D1-7D8DED55D1C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3784-5F8E-4E8C-A43E-55228597EB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A7D0-1448-444A-89CC-4690D10AC7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4920A-F2A9-4164-B840-1BAAF30287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28E4-0A1B-4C39-A727-34C3E7E059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4C73D-B6C4-42D5-9E83-5424AEB68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9828-D461-4D84-974F-0E901F196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437E-8303-4CCF-9409-41ECE0C39C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F950-AC5A-4D08-8743-F9533B5353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E673-E2FC-402C-B20A-1BE78B3A3D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CF43-71B8-402F-9DFA-6F5283DAA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FCD7-DB6E-4D3D-AAD9-CEF124981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4787-4414-40BC-A6FA-2E331DA560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E11B-A9CB-4476-B021-94D860475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7056-BD12-4B8D-9BAE-D30C8CBE0E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9B69-19C7-461E-9C1D-37B4680776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572F-4C5F-4700-9036-AF86E03649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482-5499-4451-95CE-C7B825234D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97C-DDED-4F46-8995-CA95647DB7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2D9-0A82-4442-9DEE-DF3110E16E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15F-8696-4939-80F0-D0E38C2A91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03E-2F95-4A37-B96F-55EDDB7FF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8FD0-0793-424C-BE5D-1206602B4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E78-7372-48FC-9801-9404143DFB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C42C-B2C8-4BCF-8EAD-55C504E426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E5E-D45B-4AB1-AB6C-63607F55C6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5D5-4879-4F16-B2D4-63CC9A0B83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D8A-046B-403C-8780-D92240B7BA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3EB-BC5E-4F3E-8CB7-35574519E3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55EF-9F54-4396-A051-B82ED3F3A7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5ABBA-DE48-48C6-AA55-D75F8FF058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9A6AA-FD5A-49AB-9C0B-CCFFD311A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AA8DC-4AAD-4206-A173-1CA67F218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575A-DA83-4BD1-B29F-A617338933F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947F2-7F93-4BC8-B349-F44A3C2791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94996-CCAC-4DEB-AF63-85F58946FB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793B8-912D-46DB-9336-2C5E78D7E6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680C-8AEF-43A5-8230-6BBAAD3507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A52D1-EE73-4A63-825B-97AA2135A5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38A5-5DB8-415D-B3A2-550BFAAB9A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2946C-5A8D-411A-BC0F-A89C0DB1C6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6A8E6-DA50-478F-A640-E6EA2D0599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A0C32-05B8-4EDB-90AA-9D812418AF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A409-8249-416F-AAC6-C3992B2A5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E129-6EAA-4770-ABC3-7FF6AB7844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78990-6CD4-4167-982E-0154468FFFE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0D4B2-81DB-458F-9C41-73FC733E70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D7C79-5F0C-4FCB-AF4C-75E3B353A3E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E41CC-FDC9-4167-B61A-2B3C4371E8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1EBC1-A9B7-445E-8485-5D042E8E61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2419-3D5D-417F-AB3A-A89F4F37FC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A4631-B590-4582-A101-A1983BB2C6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0B619-B1E3-429E-95B9-3600B507C99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0131E-3A90-4806-9A36-D07D8EF5CF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487DE-3829-4193-829D-D35D8D220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9AA0-96EC-4750-BFDC-E0803E8AC6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B1B58-B467-4A70-B561-87D525EBB9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396-7DA3-4E60-91E7-32C4221EB00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F361-7B63-4291-A66D-3BF195EE5AE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8DB-0DF7-4499-B3C8-FB18CA750A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B59-1E9D-42C7-8E33-6F53EBCFCB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EA7B-718C-4AF1-AE6F-C0CC1592AB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C2B-8D30-4DA6-BB13-1C50F542402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5D34-7113-4DC4-9343-842B021607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EE9-A5F0-4B52-91CF-C975874B84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784-99FD-4DF8-8B79-7BE3B64CD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F002-CAF3-4BB6-B7A7-4E8CF0B4C3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DD17-12F9-4593-AE64-134B3664C1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875B-87CE-461F-A973-14EB22982E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2626-BBEF-4B82-B0BA-D22639C3F2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208EC1-29C6-4BC3-9722-7BF75FCF6C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4C657-17F7-4D06-9C95-404353F4D1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88053-4F97-4A85-8FEF-1FED971158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1CAFA-D8F4-4C9E-B4FE-B90FD18AE4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80DBC-7114-4D6F-8C5F-57E402BE5B0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F3CDD-4A6C-4D4E-BA01-F41C6FDF08F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4DC30-D289-4355-BEF9-3500016A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20DA-9303-4A8F-BB1E-C38AB7342E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BFD75-7320-4D11-A6BA-E7610D018A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9FBB1-ABF8-420D-A5F2-CC68A0EFA8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C116C-D0A2-4C57-87AD-1699991E02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1D816-665D-4291-9370-B3A5050EC6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F5348-3EEA-4B6F-B0EA-6B76AF424C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493E8-D384-46AA-922E-48894B9435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D35D2-D7F9-42C0-A496-742193A406A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D532F-35D0-47F8-BD9D-3B287807367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06AE7-F58B-4E2A-BD95-3BBECD224A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DE4BD-5BA5-493F-A2C2-EEB199052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D4D7-F1E4-4110-93C6-0CB25CA7E32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68121-7FA2-4C13-9922-CABCD2F19D5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E57DC-76E6-43E6-80E3-BC74A05425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B016B-029E-4BDB-B6CC-10136991DE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3ECE7-5FFB-44C0-BAC5-64464712AC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447B9-851A-4FB0-86C2-C41D1604D4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AB34A-23B8-4C19-BD39-30A2237067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DB32D-B0BD-4578-B175-1B94188D15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2191-9384-47C2-BA03-B9E1AB0F17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CD055-7835-423E-B736-C02AB5FB9C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78F1E-B153-4526-9FB2-DF505CC64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9A4-2F54-4118-8105-95239179BC88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CC57-001A-439A-8146-060A76C4EC88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553D-FFAC-4946-8FFB-D8E45D672971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F98-5759-45ED-AF7A-80D11474C95E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WhitebackPPTCover3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B67-817D-4342-88CE-8041F42982A4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207-6205-481A-9285-43017DD0A4C7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2262-337F-4D3F-8EB0-E4BD2E77CA24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AB40-B969-456E-BB01-82DFAA0F631C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7AD9-383C-432D-B774-729A2595CBAD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110-5324-4DAB-8E94-CC01121DB1F3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9B1-B9B5-4607-886F-0FC7CFDFA423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FE36-115C-47E4-9A7B-D2F00930E906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Math Process Session</a:t>
            </a:r>
            <a:br>
              <a:rPr sz="4000"/>
            </a:b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Developing a Plan to Deliver Professional Development for Common Core Mathematics 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376"/>
                </a:solidFill>
                <a:latin typeface="Arial"/>
              </a:rPr>
              <a:t>November 16, 2011</a:t>
            </a:r>
            <a:endParaRPr b="0" lang="en-US" sz="24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Wrapping Up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 rot="20986200">
            <a:off x="1571400" y="1768320"/>
            <a:ext cx="5651280" cy="361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7"/>
          <p:cNvSpPr/>
          <p:nvPr/>
        </p:nvSpPr>
        <p:spPr>
          <a:xfrm>
            <a:off x="2298960" y="320040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–out-the-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ontact Information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Dianne Meigg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dianne.meiggs@dpi.nc.gov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252-340-0113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Beth Edward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Elizabeth.edwards@dpi.nc.gov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252-916-6842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Welcom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0" name="Content Placeholder 3" descr=""/>
          <p:cNvPicPr/>
          <p:nvPr/>
        </p:nvPicPr>
        <p:blipFill>
          <a:blip r:embed="rId1"/>
          <a:stretch/>
        </p:blipFill>
        <p:spPr>
          <a:xfrm>
            <a:off x="517680" y="1365120"/>
            <a:ext cx="780876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Purpos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ollaborate with colleagues to apply content knowledge in order to develop tools, lessons, units, activities, processes, and templates to use in professional development or content-area support for teacher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Outcomes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ollaborate with colleagues to apply content knowledge in order to develop tools, lessons, units, activities, processes, and templates to use in professional development or content-area support for teacher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ost at least one tool, activity, process, or template on the http://region1rttt.wikispaces.com/ for use throughout our region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15360" indent="-31536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Module Release Updates</a:t>
            </a:r>
            <a:br>
              <a:rPr sz="3800"/>
            </a:b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http://center.ncsu.edu/nc 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6" name="Content Placeholder 3" descr=""/>
          <p:cNvPicPr/>
          <p:nvPr/>
        </p:nvPicPr>
        <p:blipFill>
          <a:blip r:embed="rId1"/>
          <a:stretch/>
        </p:blipFill>
        <p:spPr>
          <a:xfrm>
            <a:off x="669960" y="1596960"/>
            <a:ext cx="78087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LEA Work Session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498" name="Content Placeholder 3" descr=""/>
          <p:cNvPicPr/>
          <p:nvPr/>
        </p:nvPicPr>
        <p:blipFill>
          <a:blip r:embed="rId1"/>
          <a:stretch/>
        </p:blipFill>
        <p:spPr>
          <a:xfrm>
            <a:off x="438120" y="1432080"/>
            <a:ext cx="76518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Break Out Work Sessions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0" name="TextBox 6"/>
          <p:cNvSpPr/>
          <p:nvPr/>
        </p:nvSpPr>
        <p:spPr>
          <a:xfrm>
            <a:off x="152280" y="4267080"/>
            <a:ext cx="8991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region1rttt.wikispace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orestandard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12.wa.us/smarte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accss.ncdpi.wikispaces.net/High+School+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dpi.state.nc.us/acr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ages.uoregon.edu/kscalise/taxonomy/taxonomy.ht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088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rocess Support Math: Menu of Option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Identify a leader/facilitator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hoose a task from the Menu 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Visit electronic resources on menu for suppor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ost your work on the Region 1 wiki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Spring Support</a:t>
            </a: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Math Content and Process Support 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4376"/>
                </a:solidFill>
                <a:latin typeface="Arial"/>
              </a:rPr>
              <a:t>May 8-9, 2011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1:08:27Z</dcterms:created>
  <dc:creator>Shauna Queen</dc:creator>
  <dc:description/>
  <dc:language>en-US</dc:language>
  <cp:lastModifiedBy>eedwards</cp:lastModifiedBy>
  <dcterms:modified xsi:type="dcterms:W3CDTF">2011-11-16T16:36:09Z</dcterms:modified>
  <cp:revision>125</cp:revision>
  <dc:subject/>
  <dc:title>PowerPoint Presentation</dc:title>
</cp:coreProperties>
</file>